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0C11-990D-4E75-B54B-F50FA2D9F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1C54-E149-40F5-AEAB-C7F58A126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D77B-CD2E-409C-8109-B3758C1D2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7FDE-B270-4DD9-97D7-F88AA7517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D23D-AFC9-4165-A229-81F50D50A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EBDD-6FCE-4966-826F-4B4914D53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FF8D-D030-4025-8C5B-3B9328710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4D8-98DB-4B80-AD34-F696D21A4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54C0-2A6B-442E-9A5F-EA85BA984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75E7-0833-4D95-A76B-8F0966A2C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11EA-0DD2-4680-9C79-D8D582009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99F2-29A4-4CE0-A0CB-C22161E2D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00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7253-0EC4-42BF-8C88-F423E36C28C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492120"/>
            <a:ext cx="64198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oenças Profission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76400" y="1481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SC BRASÃO" descr=""/>
          <p:cNvPicPr/>
          <p:nvPr/>
        </p:nvPicPr>
        <p:blipFill>
          <a:blip r:embed="rId2"/>
          <a:stretch/>
        </p:blipFill>
        <p:spPr>
          <a:xfrm>
            <a:off x="8099280" y="0"/>
            <a:ext cx="1044720" cy="1200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6280" y="6553080"/>
            <a:ext cx="17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© Andersen Consulting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27120" y="2154240"/>
            <a:ext cx="8153280" cy="38955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34960" y="2438280"/>
            <a:ext cx="5813640" cy="324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2080" y="2514600"/>
            <a:ext cx="252360" cy="252360"/>
          </a:xfrm>
          <a:prstGeom prst="ellipse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3240" y="3040200"/>
            <a:ext cx="5813640" cy="323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97080" y="3666960"/>
            <a:ext cx="5813280" cy="324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rmas Regulamen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4760" y="3087720"/>
            <a:ext cx="252360" cy="252360"/>
          </a:xfrm>
          <a:prstGeom prst="ellipse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87480" y="3695760"/>
            <a:ext cx="252360" cy="252360"/>
          </a:xfrm>
          <a:prstGeom prst="ellipse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81120" y="4362480"/>
            <a:ext cx="5813640" cy="324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iscos Ocup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4760" y="4419720"/>
            <a:ext cx="252360" cy="252360"/>
          </a:xfrm>
          <a:prstGeom prst="ellipse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01920" y="5143680"/>
            <a:ext cx="252360" cy="252360"/>
          </a:xfrm>
          <a:prstGeom prst="ellipse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89200" y="5100480"/>
            <a:ext cx="5813280" cy="324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oenças Profissionais - detalh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AD69-998B-4C4C-BFAB-77279ABC78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2141640"/>
            <a:ext cx="1979640" cy="5508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tendimento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 Ur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17960" y="3005280"/>
            <a:ext cx="1979640" cy="5508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mitir 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7960" y="3767040"/>
            <a:ext cx="1979640" cy="5508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17960" y="4618080"/>
            <a:ext cx="1979640" cy="5508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560" y="3959280"/>
            <a:ext cx="1011240" cy="1778040"/>
          </a:xfrm>
          <a:custGeom>
            <a:avLst/>
            <a:gdLst/>
            <a:ahLst/>
            <a:rect l="l" t="t" r="r" b="b"/>
            <a:pathLst>
              <a:path w="637" h="1120">
                <a:moveTo>
                  <a:pt x="0" y="0"/>
                </a:moveTo>
                <a:lnTo>
                  <a:pt x="637" y="112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73240" y="3949560"/>
            <a:ext cx="1033560" cy="947880"/>
          </a:xfrm>
          <a:custGeom>
            <a:avLst/>
            <a:gdLst/>
            <a:ahLst/>
            <a:rect l="l" t="t" r="r" b="b"/>
            <a:pathLst>
              <a:path w="651" h="597">
                <a:moveTo>
                  <a:pt x="0" y="0"/>
                </a:moveTo>
                <a:lnTo>
                  <a:pt x="651" y="597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87640" y="3927600"/>
            <a:ext cx="993600" cy="168120"/>
          </a:xfrm>
          <a:custGeom>
            <a:avLst/>
            <a:gdLst/>
            <a:ahLst/>
            <a:rect l="l" t="t" r="r" b="b"/>
            <a:pathLst>
              <a:path w="626" h="106">
                <a:moveTo>
                  <a:pt x="0" y="0"/>
                </a:moveTo>
                <a:lnTo>
                  <a:pt x="626" y="10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01680" y="3278160"/>
            <a:ext cx="989280" cy="652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9720" y="2379600"/>
            <a:ext cx="1014480" cy="1554120"/>
          </a:xfrm>
          <a:custGeom>
            <a:avLst/>
            <a:gdLst/>
            <a:ahLst/>
            <a:rect l="l" t="t" r="r" b="b"/>
            <a:pathLst>
              <a:path w="639" h="979">
                <a:moveTo>
                  <a:pt x="0" y="979"/>
                </a:moveTo>
                <a:lnTo>
                  <a:pt x="63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520" y="3666960"/>
            <a:ext cx="1979640" cy="5511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édico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o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76920" y="3946680"/>
            <a:ext cx="2143080" cy="261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Caracterização AT/ D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76920" y="4645080"/>
            <a:ext cx="2143080" cy="261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Investigação Clín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6920" y="4975200"/>
            <a:ext cx="2143080" cy="26208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Registr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76920" y="5457960"/>
            <a:ext cx="2143080" cy="261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Corre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76920" y="5800680"/>
            <a:ext cx="2143080" cy="26208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Preven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76920" y="6143760"/>
            <a:ext cx="2143080" cy="261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Cont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76920" y="6499080"/>
            <a:ext cx="2143080" cy="26208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Processos de Tra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97600" y="4095720"/>
            <a:ext cx="156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0200" y="4770360"/>
            <a:ext cx="1579680" cy="139680"/>
          </a:xfrm>
          <a:custGeom>
            <a:avLst/>
            <a:gdLst/>
            <a:ahLst/>
            <a:rect l="l" t="t" r="r" b="b"/>
            <a:pathLst>
              <a:path w="995" h="88">
                <a:moveTo>
                  <a:pt x="0" y="88"/>
                </a:moveTo>
                <a:lnTo>
                  <a:pt x="995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10200" y="4923000"/>
            <a:ext cx="1592280" cy="164880"/>
          </a:xfrm>
          <a:custGeom>
            <a:avLst/>
            <a:gdLst/>
            <a:ahLst/>
            <a:rect l="l" t="t" r="r" b="b"/>
            <a:pathLst>
              <a:path w="1003" h="104">
                <a:moveTo>
                  <a:pt x="0" y="0"/>
                </a:moveTo>
                <a:lnTo>
                  <a:pt x="1003" y="104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22800" y="5519880"/>
            <a:ext cx="1554120" cy="204480"/>
          </a:xfrm>
          <a:custGeom>
            <a:avLst/>
            <a:gdLst/>
            <a:ahLst/>
            <a:rect l="l" t="t" r="r" b="b"/>
            <a:pathLst>
              <a:path w="979" h="129">
                <a:moveTo>
                  <a:pt x="0" y="129"/>
                </a:moveTo>
                <a:lnTo>
                  <a:pt x="979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7880" y="5751360"/>
            <a:ext cx="1576440" cy="160560"/>
          </a:xfrm>
          <a:custGeom>
            <a:avLst/>
            <a:gdLst/>
            <a:ahLst/>
            <a:rect l="l" t="t" r="r" b="b"/>
            <a:pathLst>
              <a:path w="993" h="101">
                <a:moveTo>
                  <a:pt x="0" y="0"/>
                </a:moveTo>
                <a:lnTo>
                  <a:pt x="993" y="101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10200" y="5749920"/>
            <a:ext cx="1554120" cy="512640"/>
          </a:xfrm>
          <a:custGeom>
            <a:avLst/>
            <a:gdLst/>
            <a:ahLst/>
            <a:rect l="l" t="t" r="r" b="b"/>
            <a:pathLst>
              <a:path w="979" h="323">
                <a:moveTo>
                  <a:pt x="0" y="0"/>
                </a:moveTo>
                <a:lnTo>
                  <a:pt x="979" y="323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35400" y="5737320"/>
            <a:ext cx="1541520" cy="901440"/>
          </a:xfrm>
          <a:custGeom>
            <a:avLst/>
            <a:gdLst/>
            <a:ahLst/>
            <a:rect l="l" t="t" r="r" b="b"/>
            <a:pathLst>
              <a:path w="971" h="568">
                <a:moveTo>
                  <a:pt x="0" y="0"/>
                </a:moveTo>
                <a:lnTo>
                  <a:pt x="971" y="568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0560" y="5443560"/>
            <a:ext cx="1979640" cy="5508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ções Imedia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3040" y="2214720"/>
            <a:ext cx="1866960" cy="1366560"/>
            <a:chOff x="203040" y="2214720"/>
            <a:chExt cx="1866960" cy="1366560"/>
          </a:xfrm>
        </p:grpSpPr>
        <p:sp>
          <p:nvSpPr>
            <p:cNvPr id="182" name=""/>
            <p:cNvSpPr/>
            <p:nvPr/>
          </p:nvSpPr>
          <p:spPr>
            <a:xfrm>
              <a:off x="203040" y="2214720"/>
              <a:ext cx="1866960" cy="537840"/>
            </a:xfrm>
            <a:prstGeom prst="ellipse">
              <a:avLst/>
            </a:prstGeom>
            <a:solidFill>
              <a:srgbClr val="00cc99"/>
            </a:solidFill>
            <a:ln w="324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dontólogo </a:t>
              </a: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o Trabal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1040" y="2832120"/>
              <a:ext cx="457200" cy="749160"/>
            </a:xfrm>
            <a:prstGeom prst="downArrow">
              <a:avLst>
                <a:gd name="adj1" fmla="val 50000"/>
                <a:gd name="adj2" fmla="val 4096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6104-86D9-4B87-BA90-18DBDF9019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iscos Ocup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2920" y="1893960"/>
            <a:ext cx="488880" cy="4821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1363320" y="4108320"/>
            <a:ext cx="405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Profiss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15920" y="326700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41400" y="4141800"/>
            <a:ext cx="1527120" cy="287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í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1480" y="418140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54360" y="3203640"/>
            <a:ext cx="1515960" cy="285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e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í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54080" y="521028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2160" y="5183280"/>
            <a:ext cx="1516320" cy="26172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i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E3A3-6A6D-474C-9946-509962A0F6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iscos Ocup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920" y="1893960"/>
            <a:ext cx="488880" cy="4821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1363320" y="4108320"/>
            <a:ext cx="405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Profiss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65160" y="331776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16200" y="3292560"/>
            <a:ext cx="1515960" cy="2858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í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54480" y="2436840"/>
            <a:ext cx="4410000" cy="2982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Ruí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Vibraçõ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Pressões Anorma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Radiações ionizantes e não-ioniz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Temperaturas Extre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F34D-84D1-44A3-9D2A-A3F46F19393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iscos Ocup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2920" y="1893960"/>
            <a:ext cx="488880" cy="4821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-1363320" y="4108320"/>
            <a:ext cx="405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Profiss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77496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722760"/>
            <a:ext cx="1803240" cy="287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í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54480" y="2054160"/>
            <a:ext cx="4410000" cy="4610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Arsênio e seus compostos arsenica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Asbesto ou Amia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Benzeno e seus homólog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Berílio e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Bro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Cádmio ou seus compos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Carbonetos Metálicos de Tungstênio Sinteriza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Chumbo ou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Clo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Cromo ou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Flúor ou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Fósforo ou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Hidrocarbonetos alifáticos ou aromát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Io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Manganês e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Mercúrio e seus compos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Substâncias Asfixi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Sílica Liv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Sulfeto de Carbono ou dissulfeto de cabor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Alcatrão, Breu, Betume, Hulha Mineral, Parafina</a:t>
            </a:r>
            <a:br>
              <a:rPr sz="1300"/>
            </a:b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e produtos ou resíduos dessas substâ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Algodão, Linho, Cânhamo e Sis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C810-1D1A-4458-BDC9-381CBFC685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iscos Ocup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2920" y="1893960"/>
            <a:ext cx="488880" cy="4821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1363320" y="4108320"/>
            <a:ext cx="405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Profiss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7760" y="4346640"/>
            <a:ext cx="627120" cy="174600"/>
          </a:xfrm>
          <a:prstGeom prst="rightArrow">
            <a:avLst>
              <a:gd name="adj1" fmla="val 50000"/>
              <a:gd name="adj2" fmla="val 8979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6200" y="4319640"/>
            <a:ext cx="1515960" cy="26172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i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4480" y="3516480"/>
            <a:ext cx="4410000" cy="20682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Microorganismos e Parasitas Infecciosos Vivos </a:t>
            </a:r>
            <a:br>
              <a:rPr sz="1300"/>
            </a:br>
            <a:r>
              <a:rPr b="1" lang="pt-BR" sz="1300" spc="-1" strike="noStrike">
                <a:solidFill>
                  <a:srgbClr val="000066"/>
                </a:solidFill>
                <a:latin typeface="Arial"/>
              </a:rPr>
              <a:t>e seus produtos tóx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C2EC-3CC8-470C-B8C2-F237B637434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uí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280" y="2354400"/>
            <a:ext cx="7715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Mineração, construção de túneis, exploração de pedreiras (detonação, perfuração ), engenharia pesada (fundição de ferro, prensa de forja) , trabalho com máquinas que funcionam com potentes motores a combustão, utilização de máquinas têxteis, testes de reatores de avi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5240" y="1320840"/>
            <a:ext cx="1803240" cy="76212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A7DF-B70C-40C4-B1A1-AD1D192025C3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Histórico no 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2075040"/>
            <a:ext cx="7715160" cy="76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Bernardino Ramazzini (1633 – 17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1" i="1" lang="pt-BR" sz="1600" spc="-1" strike="noStrike">
                <a:solidFill>
                  <a:srgbClr val="000066"/>
                </a:solidFill>
                <a:latin typeface="Arial"/>
              </a:rPr>
              <a:t>DE MORBIS ARTIFICUM DIATRIBA”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(17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880" y="3002040"/>
            <a:ext cx="771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Ministério do Trabalho e Emprego (19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880" y="3548160"/>
            <a:ext cx="771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IPA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880" y="5021280"/>
            <a:ext cx="771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FUNDACENTRO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880" y="5592600"/>
            <a:ext cx="771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ormas Regulamentadoras (197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880" y="6189840"/>
            <a:ext cx="771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onstituição Federal de 1988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(Atos das Disposições Transitóri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880" y="4132440"/>
            <a:ext cx="7715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43ª Seção da Conferência Internacional do Trabalho – OIT (Genebra 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E365-89E4-4D8A-931B-8A1DFA6148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280" y="2417760"/>
            <a:ext cx="3470400" cy="30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Profiss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ão aquelas que ocorrem em consequência ao exercício do trabalho, provocando ou que possam vir a provocar lesões ou pertubações funcionais ou orgâ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xs: DORT (LER, L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59480" y="2417760"/>
            <a:ext cx="3983040" cy="289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ças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ão aquelas produzidas ou desencadeadas em função das condições especiais em que o trabalho é reali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xs: Stress, aler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6480" y="2317680"/>
            <a:ext cx="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1B92-8BC3-4BCF-A6B4-523A5C653E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rmas Regulamen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" y="2023920"/>
            <a:ext cx="8342280" cy="465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 – Disposições G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 – Inspeção Prév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3 – Embargo ou Interd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4 – Serviços Especializados em  Eng. de Segurança e  Medicina do Trabalho -       SS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5 – Comissão Interna de Prevenção de Acidentes – CI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6 – Equipamento de Proteção Individual - E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7 – Programa de Controle Médico de Saúde Ocupacional -PCM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8 – Edific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9 – Programa de Prevenção de Riscos Ambi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0 – Instalações e Serviços em Eletr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1 – Transporte, movimentação, armazenagem e manuseio de mate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2 – Máquinas e Equipamen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133E-8C6E-4E7A-8890-44EC514F7E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rmas Regulamen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280" y="2189160"/>
            <a:ext cx="8342280" cy="441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3 – Caldeiras e Vasos de Pres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4 – Fo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5 – Atividades e Operações Insalu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6 – Atividades e Operações Perig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7 – Ergono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8 – Condições e Meio Ambiente de Trabalho na Industria da Constr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19 – Explo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0 – Líquidos  Combustíveis e Inflamáv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1 – Trabalho a ceu ab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2 – Segurança e Saúde Ocupacional na Min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3 – Proteção contra incên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4 – Condições Sanitárias e de Conforto nos Locais de Trabal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B23B-8D90-4A53-8CC7-7BF4EB067E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rmas Regulamen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2136600"/>
            <a:ext cx="8799480" cy="44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5 – Resíduos indust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6 – Sinalização de segura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7 – Registro Prof. do Técnico de Seg. do Trabalho no Ministério do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8 – Fiscalização e pena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29 – Segurança e Saúde no Trabalho Portu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R-30 – Segurança e Saúde no Trabalho Aquaviá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 – Normas Reguladoras Ru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-1 – Disposições G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-2 – Serviço Espec. em Prevenção de Acidentes do Trabalho Rural – SEPA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-3 – Comissão Int. de Prevenção de Ac. do Trabalho Rural - CI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-4 – Equipamento de Proteção Individual - E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NNR-5 – Produtos Quím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BD2F-9B47-410D-834A-0C5F61AAC8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lações Governam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76240" y="2082960"/>
            <a:ext cx="7226280" cy="4101480"/>
            <a:chOff x="876240" y="2082960"/>
            <a:chExt cx="7226280" cy="4101480"/>
          </a:xfrm>
        </p:grpSpPr>
        <p:sp>
          <p:nvSpPr>
            <p:cNvPr id="112" name=""/>
            <p:cNvSpPr/>
            <p:nvPr/>
          </p:nvSpPr>
          <p:spPr>
            <a:xfrm>
              <a:off x="3111480" y="2082960"/>
              <a:ext cx="2768760" cy="1612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inistério do</a:t>
              </a:r>
              <a:br>
                <a:rPr sz="2000"/>
              </a:b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Trabalho e Emprego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4120" y="4571640"/>
              <a:ext cx="2768400" cy="1612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inistério da</a:t>
              </a:r>
              <a:br>
                <a:rPr sz="2000"/>
              </a:b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revidência</a:t>
              </a:r>
              <a:br>
                <a:rPr sz="2000"/>
              </a:b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 e Assistência</a:t>
              </a:r>
              <a:br>
                <a:rPr sz="2000"/>
              </a:b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76240" y="4571640"/>
              <a:ext cx="2768760" cy="1612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inistério da Saú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721600">
              <a:off x="5574240" y="3619440"/>
              <a:ext cx="1661760" cy="533520"/>
            </a:xfrm>
            <a:prstGeom prst="leftRightArrow">
              <a:avLst>
                <a:gd name="adj1" fmla="val 50000"/>
                <a:gd name="adj2" fmla="val 62006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581600">
              <a:off x="1853280" y="3632400"/>
              <a:ext cx="1661760" cy="533520"/>
            </a:xfrm>
            <a:prstGeom prst="leftRightArrow">
              <a:avLst>
                <a:gd name="adj1" fmla="val 50000"/>
                <a:gd name="adj2" fmla="val 62006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1551400">
              <a:off x="3643200" y="5081400"/>
              <a:ext cx="1662120" cy="532800"/>
            </a:xfrm>
            <a:prstGeom prst="leftRightArrow">
              <a:avLst>
                <a:gd name="adj1" fmla="val 50000"/>
                <a:gd name="adj2" fmla="val 62103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g0126127" descr=""/>
          <p:cNvPicPr/>
          <p:nvPr/>
        </p:nvPicPr>
        <p:blipFill>
          <a:blip r:embed="rId1"/>
          <a:stretch/>
        </p:blipFill>
        <p:spPr>
          <a:xfrm>
            <a:off x="3673440" y="3762360"/>
            <a:ext cx="1542960" cy="13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FB5D-2052-49AC-8DC6-305D2A0B36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rga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137360" y="4805280"/>
            <a:ext cx="1866960" cy="1785600"/>
            <a:chOff x="7137360" y="4805280"/>
            <a:chExt cx="1866960" cy="1785600"/>
          </a:xfrm>
        </p:grpSpPr>
        <p:sp>
          <p:nvSpPr>
            <p:cNvPr id="121" name=""/>
            <p:cNvSpPr/>
            <p:nvPr/>
          </p:nvSpPr>
          <p:spPr>
            <a:xfrm>
              <a:off x="7137360" y="4805280"/>
              <a:ext cx="1866960" cy="538200"/>
            </a:xfrm>
            <a:prstGeom prst="ellipse">
              <a:avLst/>
            </a:prstGeom>
            <a:solidFill>
              <a:srgbClr val="00cc99"/>
            </a:solidFill>
            <a:ln w="324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dontologia</a:t>
              </a: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o Trabal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939800">
              <a:off x="7414920" y="5573520"/>
              <a:ext cx="776160" cy="877680"/>
            </a:xfrm>
            <a:custGeom>
              <a:avLst/>
              <a:gdLst>
                <a:gd name="textAreaLeft" fmla="*/ 103680 w 776160"/>
                <a:gd name="textAreaRight" fmla="*/ 672480 w 776160"/>
                <a:gd name="textAreaTop" fmla="*/ 153360 h 877680"/>
                <a:gd name="textAreaBottom" fmla="*/ 63648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8000" y="1967040"/>
            <a:ext cx="6638760" cy="4735440"/>
            <a:chOff x="378000" y="1967040"/>
            <a:chExt cx="6638760" cy="4735440"/>
          </a:xfrm>
        </p:grpSpPr>
        <p:sp>
          <p:nvSpPr>
            <p:cNvPr id="124" name=""/>
            <p:cNvSpPr/>
            <p:nvPr/>
          </p:nvSpPr>
          <p:spPr>
            <a:xfrm>
              <a:off x="3110040" y="2112840"/>
              <a:ext cx="2404800" cy="324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98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Ministério do Trabal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8480" y="2940120"/>
              <a:ext cx="4584600" cy="5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98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Departamento Nac. de Seg. e Hig. do Trabal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D.N.S.H.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38520" y="3894120"/>
              <a:ext cx="2292480" cy="289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98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FUNDACENT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6160" y="4497480"/>
              <a:ext cx="4584600" cy="576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98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Delegacia Regional do Trabalho</a:t>
              </a:r>
              <a:br>
                <a:rPr sz="1600"/>
              </a:b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D R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44600" y="5397480"/>
              <a:ext cx="4584960" cy="325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98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Serviço de Segurança e Medicina do Trabal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33880" y="5799240"/>
              <a:ext cx="950760" cy="363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CI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41720" y="5799240"/>
              <a:ext cx="1603080" cy="363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. Seg. Tra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3320" y="5799240"/>
              <a:ext cx="1603440" cy="363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. Med. Tra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6880" y="1967040"/>
              <a:ext cx="325440" cy="2292120"/>
            </a:xfrm>
            <a:custGeom>
              <a:avLst/>
              <a:gdLst>
                <a:gd name="textAreaLeft" fmla="*/ 208080 w 325440"/>
                <a:gd name="textAreaRight" fmla="*/ 325800 w 325440"/>
                <a:gd name="textAreaTop" fmla="*/ 59760 h 2292120"/>
                <a:gd name="textAreaBottom" fmla="*/ 2232360 h 22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8000" y="2890800"/>
              <a:ext cx="14778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lano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6880" y="4371840"/>
              <a:ext cx="325440" cy="801720"/>
            </a:xfrm>
            <a:custGeom>
              <a:avLst/>
              <a:gdLst>
                <a:gd name="textAreaLeft" fmla="*/ 208080 w 325440"/>
                <a:gd name="textAreaRight" fmla="*/ 325800 w 325440"/>
                <a:gd name="textAreaTop" fmla="*/ 20880 h 801720"/>
                <a:gd name="textAreaBottom" fmla="*/ 78084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" y="4516560"/>
              <a:ext cx="14778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lano Reg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9480" y="5324400"/>
              <a:ext cx="325440" cy="1378080"/>
            </a:xfrm>
            <a:custGeom>
              <a:avLst/>
              <a:gdLst>
                <a:gd name="textAreaLeft" fmla="*/ 208080 w 325440"/>
                <a:gd name="textAreaRight" fmla="*/ 325800 w 325440"/>
                <a:gd name="textAreaTop" fmla="*/ 35640 h 1378080"/>
                <a:gd name="textAreaBottom" fmla="*/ 1342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95360" y="6273720"/>
              <a:ext cx="4584960" cy="325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EMPRE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600" y="5722920"/>
              <a:ext cx="14778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lano Empresa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95880" y="2492280"/>
              <a:ext cx="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8080" y="3548160"/>
              <a:ext cx="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09920" y="354636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99120" y="51022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49720" y="5978520"/>
              <a:ext cx="363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7800" y="5969160"/>
              <a:ext cx="314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A3B0-9C84-45B1-97BA-7E75B3BF22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17880" y="1428840"/>
            <a:ext cx="4560840" cy="490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iclo Virt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17760" y="2401920"/>
            <a:ext cx="2041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proteção ao trabalh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7760" y="5208480"/>
            <a:ext cx="2041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bem-estar so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62760" y="3589200"/>
            <a:ext cx="2041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produ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4520" y="3589200"/>
            <a:ext cx="2304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prosperidade individual e cole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321400">
            <a:off x="5414760" y="2684160"/>
            <a:ext cx="1792080" cy="604800"/>
          </a:xfrm>
          <a:custGeom>
            <a:avLst/>
            <a:gdLst>
              <a:gd name="textAreaLeft" fmla="*/ 313560 w 1792080"/>
              <a:gd name="textAreaRight" fmla="*/ 1299240 w 179208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8364600">
            <a:off x="5229360" y="4814640"/>
            <a:ext cx="1792080" cy="604800"/>
          </a:xfrm>
          <a:custGeom>
            <a:avLst/>
            <a:gdLst>
              <a:gd name="textAreaLeft" fmla="*/ 313560 w 1792080"/>
              <a:gd name="textAreaRight" fmla="*/ 1299240 w 179208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094400">
            <a:off x="1383840" y="4716000"/>
            <a:ext cx="1792440" cy="604800"/>
          </a:xfrm>
          <a:custGeom>
            <a:avLst/>
            <a:gdLst>
              <a:gd name="textAreaLeft" fmla="*/ 313560 w 1792440"/>
              <a:gd name="textAreaRight" fmla="*/ 1299600 w 179244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518600">
            <a:off x="1336320" y="2499840"/>
            <a:ext cx="1792440" cy="604800"/>
          </a:xfrm>
          <a:custGeom>
            <a:avLst/>
            <a:gdLst>
              <a:gd name="textAreaLeft" fmla="*/ 313560 w 1792440"/>
              <a:gd name="textAreaRight" fmla="*/ 1299600 w 179244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e02002_" descr=""/>
          <p:cNvPicPr/>
          <p:nvPr/>
        </p:nvPicPr>
        <p:blipFill>
          <a:blip r:embed="rId1"/>
          <a:stretch/>
        </p:blipFill>
        <p:spPr>
          <a:xfrm>
            <a:off x="3317760" y="3124080"/>
            <a:ext cx="2048040" cy="20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CD46-C382-4C45-B2B5-6854FC1FCB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2:31:42Z</dcterms:created>
  <dc:creator>Rogerio Alves Camargo</dc:creator>
  <dc:description>Blank presentation using AC standard text.  Andersen Consulting Firmwide Templates v8.0a.</dc:description>
  <dc:language>en-US</dc:language>
  <cp:lastModifiedBy>SISTEMAFIRJAN</cp:lastModifiedBy>
  <cp:lastPrinted>2000-09-13T22:51:46Z</cp:lastPrinted>
  <dcterms:modified xsi:type="dcterms:W3CDTF">2004-05-10T17:13:21Z</dcterms:modified>
  <cp:revision>465</cp:revision>
  <dc:subject/>
  <dc:title>No Slide Title</dc:title>
</cp:coreProperties>
</file>