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2CF2-577B-4176-B24D-4763AC69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42D7-E550-468B-ABAD-65141F99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4601-7767-43FB-BD51-5F6F51B88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7126-4D6C-4788-A5BB-E3787B98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DCE7-69DC-40DF-AD56-207BEF64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1CB2-BAD0-4A5C-8F2B-BA8B1D1E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16CE-B9ED-447F-997F-79B9AC1A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0002-E96C-4435-BA7C-C07A4C1E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491C-ECF6-4C24-962E-32BB375C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2DD5-4A57-45CE-AC41-09AE0D81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ABF7-4FC1-4546-8130-DD9B8348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D786-312E-4C30-81AB-B693B768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423D-03C7-4CE7-809B-65AEB11EBAA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DIFICIOS ENFERM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093080" y="3141720"/>
            <a:ext cx="1817640" cy="1811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1817640" cy="1811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38080" y="5388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VIER ENRIQUE PRIETO RUGEL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GENIERO DE SEGURIDAD INDUSTRI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TER INGENIERIA CIVI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ECIALISTA EM MEDIO AMBIENT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SIL – RIO DE JANERI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3333cd"/>
                </a:solidFill>
                <a:latin typeface="Arial"/>
              </a:rPr>
              <a:t>Comissão Brundtland en1987 formula las bases del desarrollo</a:t>
            </a:r>
            <a:r>
              <a:rPr b="1" lang="en-US" sz="2800" spc="-1" strike="noStrike">
                <a:solidFill>
                  <a:srgbClr val="c53e32"/>
                </a:solidFill>
                <a:latin typeface="Arial"/>
              </a:rPr>
              <a:t> sustentáble</a:t>
            </a:r>
            <a:r>
              <a:rPr b="1" lang="en-US" sz="2800" spc="-1" strike="noStrike">
                <a:solidFill>
                  <a:srgbClr val="3333cd"/>
                </a:solidFill>
                <a:latin typeface="Arial"/>
              </a:rPr>
              <a:t>: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•Compatibilizadas necesidades actuales sin comprometer la habilidad de las futuras generaciones de satisfazer sus necessidades aspiraciones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96080" y="5415120"/>
            <a:ext cx="14479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da habitante urbano  (média americana)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•consume por dia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68 litros de água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,8 kg de alimentos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,6 kg de combustíble fósil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•produce por dia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4 litros de esgoto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,8 kg de basura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9 kg de aire poluído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nte: Freire, 199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96080" y="5415120"/>
            <a:ext cx="14479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33720" y="1725480"/>
            <a:ext cx="533376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09680" y="1679400"/>
            <a:ext cx="4724640" cy="34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81080" y="1370160"/>
            <a:ext cx="533412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RUCTURA DEL EDIFICIO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cionalización de la energia através de la estabilización de la temperatur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joria de la calidad del air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acción elemento construído y naturalez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ciudades, dependiendo de la escala-aumento de la permeabilidad, diminución del riesgo de saturación de matéria o desperdício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27240" y="685800"/>
            <a:ext cx="308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05120" y="533520"/>
            <a:ext cx="48765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5943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57400" y="1500120"/>
            <a:ext cx="556272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NewRoman,Bold"/>
              </a:rPr>
              <a:t>ABERTURAS PROTEGIDAS DEL SOL DE ALTO VERANO RECIBEN EL SOL MAIS BAJO DE INVIERNO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•</a:t>
            </a:r>
            <a:r>
              <a:rPr b="1" lang="en-US" sz="2000" spc="-1" strike="noStrike">
                <a:solidFill>
                  <a:srgbClr val="000000"/>
                </a:solidFill>
                <a:latin typeface="TimesNewRoman,Bold"/>
              </a:rPr>
              <a:t>ROCA MACIZA Y PAREDES ESPESAS DE TIERRA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81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71800" y="762120"/>
            <a:ext cx="3503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1143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pt-BR" sz="2000" spc="-1" strike="noStrike">
                <a:solidFill>
                  <a:srgbClr val="ff3300"/>
                </a:solidFill>
                <a:latin typeface="Arial"/>
              </a:rPr>
              <a:t>•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Problemas local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–degradación de la calidad del aire,  vegetación, suelo, corroción de materiales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pende de la concentración y dispersión, factores climáticos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•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Problemas regional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–lluvia ácida. Acidos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lfuricos  nítricos se disuelven en las nuves.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otas de la lluvia, formando solución ph inferior a 5,6.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posición seca de ácidos gaseosos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ticulados 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96080" y="5415120"/>
            <a:ext cx="14479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66680" y="29718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oblemas globais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ecto estufa–aumento de determinados gases (CO2, CH4,N2O,HFCs) generados por la actividad humana como combustión de combustíbles fósiles, biomasa de las florestas, desmatamiento, etc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Calentamiento global –aumento da temperatura média global, consecuencia de la concentración de gases de efecto estufa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os, permiten el paso de radiaciones como la luz solar y retienen radiaciones de ondas largas como las emitidas por la tierra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96080" y="5415120"/>
            <a:ext cx="14479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81080" y="1542960"/>
            <a:ext cx="518184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ational Control for Atmospheric Research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ás carbônico (CO2) de la quema de combustíbles fósiles mayor causador del 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efecto estuf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e puede llevar a alteraciones climáticas como: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a elevación de la temperatura media de la superficie de la tierra, causando tempestades, inundaciones de ciudades costeras, entre otras catástrofes.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polución atmosféric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usada por automóviles y el abarcamiento de actividades industriales, lleva sustancias tóxicas a centenas o millares de kilometros, bajo forma de partículas, lluvia, nieve, etc, afectando la salud del h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33720" y="1366920"/>
            <a:ext cx="502920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3:18:35Z</dcterms:created>
  <dc:creator>/</dc:creator>
  <dc:description/>
  <dc:language>en-US</dc:language>
  <cp:lastModifiedBy>Crystal</cp:lastModifiedBy>
  <dcterms:modified xsi:type="dcterms:W3CDTF">2004-05-28T11:35:31Z</dcterms:modified>
  <cp:revision>76</cp:revision>
  <dc:subject/>
  <dc:title> UNIVERSIDADE FEDERAL DO ESPÍRITO SANTO - UFES  CENTRO TECNOLÓGICO - CT DEPARTAMENTO DE ENGENHARIA AMBIENTAL - DEA    VENTILAÇÃO INDUSTRIAL</dc:title>
</cp:coreProperties>
</file>